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CD8-7719-4632-BE3B-1031DEAE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CF8-7E03-418C-99D1-5A0791C5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8CA-1F0D-49E0-B753-C22903DB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168-2DDF-4BE5-B895-619E3D38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0C3-C0D0-46B9-A319-6C3C71E2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520-48B5-47A7-9C2B-892D7517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BD2-3F7B-49FF-9321-8F2A7253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B68-9E0D-4D62-BBF3-58E833F3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8A5-3587-46C7-B9AF-CF3D126C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50C-14B6-4822-BD85-C1A9ACAB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C1D-C488-45F7-A80F-DA3560F0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5ED-53D2-4E64-8B4E-8859833A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E58E-D642-4381-AA32-0BB0C1367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03F-A480-4F8D-A356-0F875F76F5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čemu MS Project slouž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efektivnímu plánování úk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jejich kompletaci do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nalezení nejrychlejší možné dob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nalezení kritických c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2B8-732C-4301-8ADC-3742EE6A73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š projekt – stavba do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00000" y="1773360"/>
          <a:ext cx="7137360" cy="36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7137360" cy="36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F74-FBEF-4966-9E81-C0F4F41FD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ázvoslo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kol – základní jednotka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– skládá se z jednotlivých úkolů, které na sebe obvykle různými způsoby navazu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itická cesta – úkoly, jejichž prodloužením se prodlouží celý 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762-03FB-462F-A538-AC87CD1445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vě základní zobra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7040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antův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ý (Network)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a slouží pro přehledné, grafické znázorněn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5ED-0ED1-4061-9CBD-A8C4829742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1:11:27Z</dcterms:created>
  <dc:creator>Poč.učebny</dc:creator>
  <dc:description/>
  <dc:language>en-US</dc:language>
  <cp:lastModifiedBy>Jiří Beran</cp:lastModifiedBy>
  <dcterms:modified xsi:type="dcterms:W3CDTF">2006-04-19T22:50:34Z</dcterms:modified>
  <cp:revision>8</cp:revision>
  <dc:subject/>
  <dc:title>Microsoft Access</dc:title>
</cp:coreProperties>
</file>